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BC4DB0-9F3B-4AD8-8860-615C4CB0E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707835-DDF0-4FC6-82D8-4DF3A914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4186-4A4F-490A-9752-8FA2BCC6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F016-E014-4E7C-8B01-D74F4A6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F48B-61D2-4556-B258-CBC0BCA2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D634-F53C-40BD-90DE-8521FC97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74116-1CA1-4485-B7D0-6CA394A851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6293-9E62-494B-836D-D068A750B1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1B5F3-1630-4462-B6DB-0D7794A71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1584B-A8A1-4AC2-9E06-8A6B6340B8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BF9CA-08EB-415D-9ABA-0F1C6D4FA2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D6394-3617-4425-A862-31C4D06F86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7F024-E340-4CDF-BD13-133DD0E81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A238-C1D9-4D28-9992-3A4D8D4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49301-A989-4AD9-A461-EB8037F6F2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9FF8F-4BBC-4B12-B11B-2ADED84874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F0011-557A-4539-862E-0ACD54B15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4B2B2-B1B2-4CE1-9636-FD44165B3D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FF56-DB14-4500-955D-2CFEC16035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EA1B0-958B-4CA9-B4B8-FCB10210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2E268-CC98-4E0F-8587-0DC0C1E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ED8F0-6DF6-4CD7-B46F-57DFFBF6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2BD00-8739-4DDB-9942-ABABBF2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759BD-2133-452A-A951-5BF01E67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EC52-DC4F-4FD9-BF81-0807264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197E6-B065-4C92-9F36-B41805C8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7668D-1F1F-496C-BF9E-637F79C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25264-BCEC-4057-BD99-DBCFFCC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C8242-4FB0-48BE-A64D-092A815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90048-BCCD-412E-8046-0CB71B6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78F04-284B-45B7-B38F-9881C7BA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615C6-79E4-43DC-B7CB-0EADB9F8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203D-EDEC-4851-ACEF-CFFA1CC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943A-CFDE-4311-AA93-BC0D4B0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C9C9-69C0-46EA-859E-58B1AF8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4F4E-6958-4152-B92B-8612877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1088-E0A4-481C-AF9A-5E16984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1A34-831C-4564-81CA-053C8D8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829B-AC7E-44DB-A493-126EB7CB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22FB-1F0C-4F22-B268-985133FF4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D962-DD23-4E84-AB89-BD2762B2E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E399-603C-48E2-A7F6-D3EF91E32B1A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DAB8-527C-4837-898E-FF080CC49ED9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tandards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Drive Curriculum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New York State </a:t>
            </a:r>
            <a:br>
              <a:rPr sz="3600"/>
            </a:b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Information Literacy Standards</a:t>
            </a:r>
            <a:br>
              <a:rPr sz="3600"/>
            </a:b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84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86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1C33-DF66-4415-A3C8-2F48C0CD723D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New York State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Information Literacy Standard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1800"/>
            </a:b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1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93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7CE3-C870-4810-8BB6-CAC5D903B83D}" type="slidenum">
              <a:t>4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Educational Technology</a:t>
            </a:r>
            <a:br>
              <a:rPr sz="40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Education Law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and the 21</a:t>
            </a:r>
            <a:r>
              <a:rPr b="1" lang="en-US" sz="3600" spc="-1" strike="noStrike" baseline="30000">
                <a:solidFill>
                  <a:srgbClr val="a69564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 Century Learner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Education Law 814 </a:t>
            </a:r>
            <a:br>
              <a:rPr sz="2800"/>
            </a:b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nternet Safety Course of Stud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8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200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9960" y="426708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Specialists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052B-0961-4487-A891-FA121A860282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Educational Technology</a:t>
            </a:r>
            <a:br>
              <a:rPr sz="4000"/>
            </a:b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Internet Safety Course of Study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9480" y="-101160"/>
            <a:ext cx="2690640" cy="2889720"/>
            <a:chOff x="-69480" y="-101160"/>
            <a:chExt cx="2690640" cy="2889720"/>
          </a:xfrm>
        </p:grpSpPr>
        <p:sp>
          <p:nvSpPr>
            <p:cNvPr id="207" name=""/>
            <p:cNvSpPr/>
            <p:nvPr/>
          </p:nvSpPr>
          <p:spPr>
            <a:xfrm flipH="1" flipV="1">
              <a:off x="1248120" y="850680"/>
              <a:ext cx="696600" cy="193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-69480" y="-101160"/>
              <a:ext cx="2690640" cy="1991880"/>
              <a:chOff x="-69480" y="-101160"/>
              <a:chExt cx="2690640" cy="1991880"/>
            </a:xfrm>
          </p:grpSpPr>
          <p:sp>
            <p:nvSpPr>
              <p:cNvPr id="209" name=""/>
              <p:cNvSpPr/>
              <p:nvPr/>
            </p:nvSpPr>
            <p:spPr>
              <a:xfrm rot="20413800">
                <a:off x="70920" y="2692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413800">
                <a:off x="199800" y="3513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60C0-6497-4366-90B9-25551749F49B}" type="slidenum">
              <a:t>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1:52Z</dcterms:modified>
  <cp:revision>111</cp:revision>
  <dc:subject/>
  <dc:title>Work Group Question here</dc:title>
</cp:coreProperties>
</file>